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88F6-D8DD-41ED-AEE2-A391EB4B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524-7659-4C16-8D1C-283BDD56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64B-4643-4B38-8DFC-4CA67A6F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EB7-B1F9-482A-8227-44847C5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7DAE9-4E28-4984-8758-38961284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54854-4CE0-4782-8995-C9A1BE95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4F16A-C6A0-486D-9513-F47C8AC9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F483F-5E7A-4DA1-AB29-9D6AB2F8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9443B-42D3-4CE2-B185-E623D009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06895-AC3F-438E-8273-87FD9EB9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07202-0508-4314-8BBE-1FED8CA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52C-ACC0-4945-8761-E37AEF36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56F89-BB33-4C36-8658-BDEDFCA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2C2B0-A6DE-40D0-B1B5-CB6601F3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BE353-799B-4C28-8A0F-9C9D0360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6DB8D-52CA-44E8-9167-3D94C0D2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0F2CD-D476-45B3-83BF-5B0ECFA6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0821-C923-4F65-B876-50AE8D36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842-ECB6-4338-9773-74C5AD16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975-AAA5-4050-9C8F-2EC6219A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736-4826-4531-ABB9-A4EE262A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CDC-2DDB-4701-BBF5-9958FA75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EA7-B424-4922-85FC-DF8F105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F98-D2BE-44C0-9EC3-589E6430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2F17-ED3E-483F-86C2-1A7F7AD2F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B6A7-DB36-415D-9B37-FB0DE630B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Island Survival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76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ric Frangenhe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Exercising your Thinking and Surviv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7128000" cy="260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AU" sz="7200" spc="-1" strike="noStrike">
                <a:solidFill>
                  <a:srgbClr val="ffffff"/>
                </a:solidFill>
                <a:latin typeface="Arial"/>
              </a:rPr>
              <a:t>How?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ilent Round Robin Strate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Teams of 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One sheet of paper per stu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Multiple answ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wap – read – add ideas –no repe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Choosing your valuable i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Teams of 4-5, but discuss and decide in pai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trategy- Tournament Prioritis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Exciting Writ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Y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What does i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Look L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ound L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Feel L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68880" y="1700280"/>
            <a:ext cx="2943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Abandon Ship’ to ‘The Landing’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Abandon 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Sea Trip in the Lifebo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Land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16360" y="3854520"/>
            <a:ext cx="442764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Arial"/>
              </a:rPr>
              <a:t>Exciting Writ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Use the materials from your Y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3 paragraph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Taking Stock of the Isla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ush tropical i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ountain and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ean water in 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mb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ral Ree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conut trees and Ban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ot 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owling noises from fo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wo human skele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moke from the moun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ck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77080" y="5373720"/>
            <a:ext cx="2016000" cy="1211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11280" y="5359320"/>
            <a:ext cx="2376360" cy="1352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92360" y="5376960"/>
            <a:ext cx="2664000" cy="1481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600" spc="-1" strike="noStrike">
                <a:solidFill>
                  <a:srgbClr val="ffff00"/>
                </a:solidFill>
                <a:latin typeface="Arial"/>
              </a:rPr>
              <a:t>HOW? SWOT Analysi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905120"/>
          <a:ext cx="8229240" cy="4114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0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akn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portuniti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Establish your Fo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6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Use your SWOT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You may add 4 other features to your map (eg fresh water la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Decide where to place it on your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638680" y="1916280"/>
            <a:ext cx="309888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Design your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large sheets of paper and tex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your plans, include, with labe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ortif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ater collection and 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od g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mensions in me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fensive apparatus from local and importe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ow? Six Thinking Hats, Concept maps and C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What do you think of your plan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16570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1905120"/>
          <a:ext cx="6781680" cy="3179520"/>
        </p:xfrm>
        <a:graphic>
          <a:graphicData uri="http://schemas.openxmlformats.org/drawingml/2006/table">
            <a:tbl>
              <a:tblPr/>
              <a:tblGrid>
                <a:gridCol w="2406600"/>
                <a:gridCol w="2187360"/>
                <a:gridCol w="218772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 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 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 H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o close to t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 some tre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we make a lookou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56000" y="5300640"/>
            <a:ext cx="480348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3240360" cy="2450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39640" y="4184640"/>
            <a:ext cx="3780000" cy="2673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38240" y="0"/>
            <a:ext cx="2681280" cy="3284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2000" y="201600"/>
            <a:ext cx="313200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156360" y="3567240"/>
            <a:ext cx="2987640" cy="2743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at is it ab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Peer Assessment of Community Pl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wap plans and one Explainer with another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0 minutes to examine, analyse and ju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3 h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48320" y="1916280"/>
          <a:ext cx="4038480" cy="41763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70675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Designing a set of Island Community Rules –part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358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urpose of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aily living and peaceful co-existence, avoid conflict, survival, respect for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1. Use a Noisy Round Robin to list all soci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’s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problems today in Australia and else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2. Categorise and Classify thes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ep 3- List these on White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45440" y="260280"/>
            <a:ext cx="179856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Designing a set of Island Community Rules –step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e data on white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rategy – 1:4:P:C: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: Each member writes own rules (Shhhhh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4: Share your ideas in 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: Get your best 10 rules on a large sh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: Circle room to get better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: Return and refine then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Which is the best set of ru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rategy – Decision Making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ach team will be given two sets of rules to ju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velop factors by which to judge these sets of rules, eg, Teamwork, Fairness, Protecting Environment (what els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Creating a story about survival on the is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Strategy – Random Inp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943600" y="2209680"/>
            <a:ext cx="2305080" cy="1609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600" spc="-1" strike="noStrike">
                <a:solidFill>
                  <a:srgbClr val="ffffff"/>
                </a:solidFill>
                <a:latin typeface="Arial"/>
              </a:rPr>
              <a:t>Lesson Goal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magination and Creative Wr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m Work and Problem Solv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se of Thinking To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dging yourself and o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ecisio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ing F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Class set-u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ams of 4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ne table pe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oup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ri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hite Hat Thinker – What are all the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llow Hat Thinker – Why this is a good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lack Hat Thinker – Why this is a poor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reen Hat Thinker – What are the new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World War Two 1939-45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lied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K, Commonwealth countries (Cricket, Rugby Union), France, USA, USS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xis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ermany, Italy and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Evacuatio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303200"/>
            <a:ext cx="777528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ff"/>
                </a:solidFill>
                <a:latin typeface="Arial"/>
              </a:rPr>
              <a:t>From Venezuela to Florid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952720"/>
          <a:ext cx="403848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52720"/>
                    <a:ext cx="4038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435640" y="3255840"/>
            <a:ext cx="3457440" cy="2857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5280" y="3284640"/>
            <a:ext cx="4248000" cy="3004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987640" y="1989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Danger Be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Torpedo !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7560" y="1700280"/>
            <a:ext cx="3152880" cy="453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489744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Arial"/>
              </a:rPr>
              <a:t>Abandon Shi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5338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he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24 x 13 year 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aptain mortally wou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Crew all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5 minutes to get to life bo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ny islands near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Grab all survival materials you can coll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437160" y="2637000"/>
            <a:ext cx="2706840" cy="2141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227640" y="4919760"/>
            <a:ext cx="2571840" cy="1938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940360" y="200160"/>
            <a:ext cx="3203640" cy="2095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0:56:09Z</dcterms:created>
  <dc:creator>Eric  Frangenheim</dc:creator>
  <dc:description/>
  <dc:language>en-US</dc:language>
  <cp:lastModifiedBy> </cp:lastModifiedBy>
  <dcterms:modified xsi:type="dcterms:W3CDTF">2006-08-13T22:01:27Z</dcterms:modified>
  <cp:revision>19</cp:revision>
  <dc:subject/>
  <dc:title>Hale Island Surviv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43725856</vt:r8>
  </property>
  <property fmtid="{D5CDD505-2E9C-101B-9397-08002B2CF9AE}" pid="3" name="_AuthorEmail">
    <vt:lpwstr>ericf@rodineducation.com.au</vt:lpwstr>
  </property>
  <property fmtid="{D5CDD505-2E9C-101B-9397-08002B2CF9AE}" pid="4" name="_AuthorEmailDisplayName">
    <vt:lpwstr>Eric Frangenheim</vt:lpwstr>
  </property>
  <property fmtid="{D5CDD505-2E9C-101B-9397-08002B2CF9AE}" pid="5" name="_EmailSubject">
    <vt:lpwstr>PPoint for Year 5-6</vt:lpwstr>
  </property>
  <property fmtid="{D5CDD505-2E9C-101B-9397-08002B2CF9AE}" pid="6" name="_ReviewingToolsShownOnce">
    <vt:lpwstr/>
  </property>
</Properties>
</file>